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8CB6D-AE33-4355-B1D4-6AB07C0BD0F2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Dia számának hely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09692-96C9-49D7-867A-673AFBA432FA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D54F-888B-48CE-8F01-739F725B3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7D4B-F2F5-4D0D-B57A-C47DE6EB9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4CDC-07AE-4D4C-9EA6-61B5BA131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644E-0752-4990-ADD5-D010C2368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D0EF-BAC1-42C6-8209-F5E5FFFE7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5B2D-5EA9-4AA7-AA1B-8FD41AB89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63AD-352A-4846-8C18-AA9CF9335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622C-ECF9-43CC-9F82-D216F2988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D1FF-EE93-434D-ACED-5B9200BD8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026F-FAD5-4A9E-B9F9-15B1FC941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7A43-8EE4-47FE-9220-A12A011D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957B-51F9-4386-91A1-F933C31FB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8CAF1-361D-4039-9382-022493296DD5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545080" y="5013000"/>
            <a:ext cx="36352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fode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ň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– Banská Byst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8. 04.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071800" y="500040"/>
            <a:ext cx="48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rogram cezhraničnej spolupráce Maďarsko-Slovens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14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1" name="Rectangle 15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Picture 16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17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Cím 1"/>
          <p:cNvSpPr/>
          <p:nvPr/>
        </p:nvSpPr>
        <p:spPr>
          <a:xfrm>
            <a:off x="714240" y="24591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IMIS 2007-2013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ystém na predkladani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žiados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" name="Szövegdoboz 6"/>
          <p:cNvSpPr/>
          <p:nvPr/>
        </p:nvSpPr>
        <p:spPr>
          <a:xfrm>
            <a:off x="71280" y="324000"/>
            <a:ext cx="52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zövegdoboz 7"/>
          <p:cNvSpPr/>
          <p:nvPr/>
        </p:nvSpPr>
        <p:spPr>
          <a:xfrm>
            <a:off x="5429160" y="1357200"/>
            <a:ext cx="357192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Úd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I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áhlad do údajov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dať nového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400" spc="-1" strike="noStrike">
                <a:solidFill>
                  <a:srgbClr val="000000"/>
                </a:solidFill>
                <a:latin typeface="Arial"/>
              </a:rPr>
              <a:t>TYPE SEL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Vybrať typ partnera (Vedúci partner, Záhraničný partner atď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mena údajov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ymazanie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3"/>
          <a:stretch/>
        </p:blipFill>
        <p:spPr>
          <a:xfrm>
            <a:off x="142920" y="1357200"/>
            <a:ext cx="5162400" cy="2143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"/>
          <p:cNvPicPr/>
          <p:nvPr/>
        </p:nvPicPr>
        <p:blipFill>
          <a:blip r:embed="rId4"/>
          <a:stretch/>
        </p:blipFill>
        <p:spPr>
          <a:xfrm>
            <a:off x="998640" y="2571840"/>
            <a:ext cx="2430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8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" name="Téglalap 6"/>
          <p:cNvSpPr/>
          <p:nvPr/>
        </p:nvSpPr>
        <p:spPr>
          <a:xfrm>
            <a:off x="214200" y="976320"/>
            <a:ext cx="8643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 zvolení typu partnera sa objaví okn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PARTNERSHIP (PARTNERSTVO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, ktoré má tri zálož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dentifikácia (Identification) | Predstavitelia (Representatives) | Obchodné údaje (Business d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zövegdoboz 7"/>
          <p:cNvSpPr/>
          <p:nvPr/>
        </p:nvSpPr>
        <p:spPr>
          <a:xfrm>
            <a:off x="142920" y="14292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PARTNERSHIP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Identification - Identifik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zövegdoboz 7"/>
          <p:cNvSpPr/>
          <p:nvPr/>
        </p:nvSpPr>
        <p:spPr>
          <a:xfrm>
            <a:off x="6357960" y="1746360"/>
            <a:ext cx="257184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PARTNER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Typ, názov, adresa, dič, kontak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PARTNER DATA  IN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Právna forma (verejný subjekt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orgán štátnej správy</a:t>
            </a:r>
            <a:r>
              <a:rPr b="0" i="1" lang="sk-SK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súkromný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200" spc="-1" strike="noStrike">
                <a:solidFill>
                  <a:srgbClr val="000000"/>
                </a:solidFill>
                <a:latin typeface="Arial"/>
              </a:rPr>
              <a:t>BRANCH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Adresa pobočky(čie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142920" y="1571760"/>
            <a:ext cx="6072120" cy="43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26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Szövegdoboz 5"/>
          <p:cNvSpPr/>
          <p:nvPr/>
        </p:nvSpPr>
        <p:spPr>
          <a:xfrm>
            <a:off x="142920" y="181080"/>
            <a:ext cx="692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PARTNERSHIP\ Representatives - Predstavite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zövegdoboz 7"/>
          <p:cNvSpPr/>
          <p:nvPr/>
        </p:nvSpPr>
        <p:spPr>
          <a:xfrm>
            <a:off x="6572160" y="1103400"/>
            <a:ext cx="250056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NTACT PERSON Kontaktná oso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no, pozícia, e-mail, kontak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EGAL REPRESENTATIVE Právný zástup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no, pozícia, e-mail, kontak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FOUNDER ORGANISATION Zakladateľská organizá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á sa to vypĺňať v prípade, ak je partner priamo riaden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nou organizáciou, ako napríklad v prípade strednej školy, ktorá je riadená regiónom a po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"/>
          <p:cNvPicPr/>
          <p:nvPr/>
        </p:nvPicPr>
        <p:blipFill>
          <a:blip r:embed="rId3"/>
          <a:stretch/>
        </p:blipFill>
        <p:spPr>
          <a:xfrm>
            <a:off x="142920" y="1143000"/>
            <a:ext cx="63151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3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" name="Szövegdoboz 7"/>
          <p:cNvSpPr/>
          <p:nvPr/>
        </p:nvSpPr>
        <p:spPr>
          <a:xfrm>
            <a:off x="71280" y="71280"/>
            <a:ext cx="60008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PARTNERSHIP\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Business Data – Obchodné údaj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zövegdoboz 7"/>
          <p:cNvSpPr/>
          <p:nvPr/>
        </p:nvSpPr>
        <p:spPr>
          <a:xfrm>
            <a:off x="6000840" y="1071720"/>
            <a:ext cx="300024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acity</a:t>
            </a: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/Kapac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te informácie o predchádzajúcich skúsenostiach partnera s riadením projekt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Názov projektu, rozpočet, typ účasti atď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ast closed budgetary year Posledný uzavretý rozpočtový r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ťe obrat, náklady, výsled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ocations – Mie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te tu všetky miesta, kde sa váš projekt alebo niektoré jeho časti budú realizova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Bank accou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čty v ban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te tie účty v banke, ktoré sú pre realizáciu projektu relevantn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3"/>
          <a:stretch/>
        </p:blipFill>
        <p:spPr>
          <a:xfrm>
            <a:off x="87480" y="1071720"/>
            <a:ext cx="57704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4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Szövegdoboz 6"/>
          <p:cNvSpPr/>
          <p:nvPr/>
        </p:nvSpPr>
        <p:spPr>
          <a:xfrm>
            <a:off x="71280" y="339840"/>
            <a:ext cx="742968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COOPERATION CRITER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ritériá pre spoluprác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zövegdoboz 7"/>
          <p:cNvSpPr/>
          <p:nvPr/>
        </p:nvSpPr>
        <p:spPr>
          <a:xfrm>
            <a:off x="5929200" y="1643040"/>
            <a:ext cx="30006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erte si jedno z kritérií kliknutím na neho, potom si vyberte prvok z rozbaľovacieho men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líčka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Value (Hodnota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a pravej strane, potom uveďte zdôvodnenie alebo vysvetl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šho výberu v políčku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escription (Popis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ento proces opakujte pre každé kritériu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3"/>
          <a:stretch/>
        </p:blipFill>
        <p:spPr>
          <a:xfrm>
            <a:off x="142920" y="1643040"/>
            <a:ext cx="564336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47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8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0" name="Szövegdoboz 6"/>
          <p:cNvSpPr/>
          <p:nvPr/>
        </p:nvSpPr>
        <p:spPr>
          <a:xfrm>
            <a:off x="71280" y="357120"/>
            <a:ext cx="707256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PROJECT DESCRIP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Popis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zövegdoboz 7"/>
          <p:cNvSpPr/>
          <p:nvPr/>
        </p:nvSpPr>
        <p:spPr>
          <a:xfrm>
            <a:off x="5643720" y="1357200"/>
            <a:ext cx="321444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PROJECT DESCRIPTIONS (POPIS PROJEKTU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musíte podrobne slovne popísať každ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ému uvedenú na ľavej stran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 vybraní si danej témy sa tento popis vkladá do políčok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escription (Popis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podľa jednotlivých té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e povinné uviesť popis všetkých té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3"/>
          <a:stretch/>
        </p:blipFill>
        <p:spPr>
          <a:xfrm>
            <a:off x="142920" y="1357200"/>
            <a:ext cx="5371920" cy="2233800"/>
          </a:xfrm>
          <a:prstGeom prst="rect">
            <a:avLst/>
          </a:prstGeom>
          <a:ln w="0">
            <a:noFill/>
          </a:ln>
        </p:spPr>
      </p:pic>
      <p:pic>
        <p:nvPicPr>
          <p:cNvPr id="153" name="Szövegdoboz 9" descr=""/>
          <p:cNvPicPr/>
          <p:nvPr/>
        </p:nvPicPr>
        <p:blipFill>
          <a:blip r:embed="rId4"/>
          <a:stretch/>
        </p:blipFill>
        <p:spPr>
          <a:xfrm>
            <a:off x="133200" y="3992400"/>
            <a:ext cx="887760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55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8" name="Szövegdoboz 6"/>
          <p:cNvSpPr/>
          <p:nvPr/>
        </p:nvSpPr>
        <p:spPr>
          <a:xfrm>
            <a:off x="71280" y="142920"/>
            <a:ext cx="72154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OBJECTIVES AND ACTIVIT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Ciele a aktivit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"/>
          <p:cNvPicPr/>
          <p:nvPr/>
        </p:nvPicPr>
        <p:blipFill>
          <a:blip r:embed="rId3"/>
          <a:stretch/>
        </p:blipFill>
        <p:spPr>
          <a:xfrm>
            <a:off x="142920" y="1143000"/>
            <a:ext cx="5214960" cy="11714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"/>
          <p:cNvPicPr/>
          <p:nvPr/>
        </p:nvPicPr>
        <p:blipFill>
          <a:blip r:embed="rId4"/>
          <a:stretch/>
        </p:blipFill>
        <p:spPr>
          <a:xfrm>
            <a:off x="142920" y="2428920"/>
            <a:ext cx="5241960" cy="3071880"/>
          </a:xfrm>
          <a:prstGeom prst="rect">
            <a:avLst/>
          </a:prstGeom>
          <a:ln w="0">
            <a:noFill/>
          </a:ln>
        </p:spPr>
      </p:pic>
      <p:sp>
        <p:nvSpPr>
          <p:cNvPr id="161" name="Szövegdoboz 9"/>
          <p:cNvSpPr/>
          <p:nvPr/>
        </p:nvSpPr>
        <p:spPr>
          <a:xfrm>
            <a:off x="5500800" y="1071720"/>
            <a:ext cx="32144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tvorte zoznam plánovaný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ových aktivít. Ohladne jednotlivých aktivít je potrebné zadať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áz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odpovední partne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Ostatní zapojení partne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op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izik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íslušné obdob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Odhadované náklady na aktivi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6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6" name="Szövegdoboz 8"/>
          <p:cNvSpPr/>
          <p:nvPr/>
        </p:nvSpPr>
        <p:spPr>
          <a:xfrm>
            <a:off x="142920" y="142920"/>
            <a:ext cx="52862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BUDG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zövegdoboz 9"/>
          <p:cNvSpPr/>
          <p:nvPr/>
        </p:nvSpPr>
        <p:spPr>
          <a:xfrm>
            <a:off x="6286680" y="785880"/>
            <a:ext cx="2714400" cy="52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Rozpoč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Horná čas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ozpočet na úrovni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olná časť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ozpočet na úrovni partner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Rozpočet na úrovni partnerov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lavo: tabulka partner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pravo: 3 rozpočtové tabul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3 rozpočtové tabuľk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droj spolufinancovania vybraného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drobná rozpočtová tabuľka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celkové náklady predpokladané za určité obdobia (pre vybraného partner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3"/>
          <a:stretch/>
        </p:blipFill>
        <p:spPr>
          <a:xfrm>
            <a:off x="142920" y="785880"/>
            <a:ext cx="6075360" cy="3143160"/>
          </a:xfrm>
          <a:prstGeom prst="rect">
            <a:avLst/>
          </a:prstGeom>
          <a:ln w="0">
            <a:noFill/>
          </a:ln>
        </p:spPr>
      </p:pic>
      <p:sp>
        <p:nvSpPr>
          <p:cNvPr id="169" name="Téglalap 13"/>
          <p:cNvSpPr/>
          <p:nvPr/>
        </p:nvSpPr>
        <p:spPr>
          <a:xfrm>
            <a:off x="214200" y="4187880"/>
            <a:ext cx="60008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erte partnera vľa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ert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etailed partner budget table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odrobnú rozpočtovú tabuľku partnera) - Tu môžete zaznamenať plánované výdaje do rozpočtových položi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liknite na rozpočtovú položku - napr.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estovné a ubytovacie náklady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– a následne kliknite na tlačidl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odify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… (Upraviť..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71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4" name="Szövegdoboz 6"/>
          <p:cNvSpPr/>
          <p:nvPr/>
        </p:nvSpPr>
        <p:spPr>
          <a:xfrm>
            <a:off x="142920" y="214200"/>
            <a:ext cx="671508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BUDGET\Travel and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Cestovné a ubytova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9" descr=""/>
          <p:cNvPicPr/>
          <p:nvPr/>
        </p:nvPicPr>
        <p:blipFill>
          <a:blip r:embed="rId3"/>
          <a:stretch/>
        </p:blipFill>
        <p:spPr>
          <a:xfrm>
            <a:off x="142920" y="1432080"/>
            <a:ext cx="6000840" cy="2968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"/>
          <p:cNvPicPr/>
          <p:nvPr/>
        </p:nvPicPr>
        <p:blipFill>
          <a:blip r:embed="rId4"/>
          <a:stretch/>
        </p:blipFill>
        <p:spPr>
          <a:xfrm>
            <a:off x="1071720" y="2932200"/>
            <a:ext cx="3071520" cy="2068560"/>
          </a:xfrm>
          <a:prstGeom prst="rect">
            <a:avLst/>
          </a:prstGeom>
          <a:ln w="0">
            <a:noFill/>
          </a:ln>
        </p:spPr>
      </p:pic>
      <p:sp>
        <p:nvSpPr>
          <p:cNvPr id="177" name="Téglalap 11"/>
          <p:cNvSpPr/>
          <p:nvPr/>
        </p:nvSpPr>
        <p:spPr>
          <a:xfrm>
            <a:off x="6215040" y="1357200"/>
            <a:ext cx="2714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Otvorí sa nové okn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ST (NÁKLADY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 podrobnejšími rozpočtovými položkami  (Cestovné, diéty, ubytovaci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églalap 12"/>
          <p:cNvSpPr/>
          <p:nvPr/>
        </p:nvSpPr>
        <p:spPr>
          <a:xfrm>
            <a:off x="6286680" y="2357280"/>
            <a:ext cx="27144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liknite na podrobnejšiu rozpočtovú položku a opäť stlačte tlačidl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odify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… (Upraviť..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Objaví sa ďalšie okn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ST (NÁKLADY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, kde je nutné uviesť plánovanú sumu výdavkov a doplniť PODROBNÝ popis príslušného výdavku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(Descrip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zavrite okno tlačidlom O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Szövegdoboz 6"/>
          <p:cNvSpPr/>
          <p:nvPr/>
        </p:nvSpPr>
        <p:spPr>
          <a:xfrm>
            <a:off x="71280" y="208080"/>
            <a:ext cx="6786720" cy="12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BUDGET\Source of co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Odhad celkových výdavkov za dané obdo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zövegdoboz 10"/>
          <p:cNvSpPr/>
          <p:nvPr/>
        </p:nvSpPr>
        <p:spPr>
          <a:xfrm>
            <a:off x="6286680" y="1025640"/>
            <a:ext cx="271440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ento odhad je požadovaný z dôvodu plánovania časového harmonogramu plati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 rozpočtu program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adané sumy sú indikatívne, ale v prípade závažnej odchýlky od plánovaného harmonogramu čerpania výdavkov by mohlo  dôjsť k zníženiu výšky príspevku z ERDF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i vyplňovaní tohto odhadu buďte realistickí. Tento program má dvojúrovňový proces  refundácie, pričom môže trvať až 4-5 mesiacov od predloženia zaplatených faktúr kontrolným úradom do vyplatenia príspev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6" descr=""/>
          <p:cNvPicPr/>
          <p:nvPr/>
        </p:nvPicPr>
        <p:blipFill>
          <a:blip r:embed="rId3"/>
          <a:stretch/>
        </p:blipFill>
        <p:spPr>
          <a:xfrm>
            <a:off x="108000" y="1071720"/>
            <a:ext cx="6107040" cy="36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6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6" name="Rectangle 7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Picture 8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9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" name="Szövegdoboz 6"/>
          <p:cNvSpPr/>
          <p:nvPr/>
        </p:nvSpPr>
        <p:spPr>
          <a:xfrm>
            <a:off x="285840" y="357120"/>
            <a:ext cx="8358120" cy="51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Základné informá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používateľský manuál pre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IMIS 2007-2013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ájdete na našej webovej stránke medzi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dokumenty na stiahnutie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v slovenskom jazyk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jazyk systému je anglick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jazyk všetkého materiálu (výzva, príručky, manuáli atď.) je slovenská a maďarská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jazyk podania žiadosti je slovenský a maďarský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žiadosti v tretej výzve sa podávajú cez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IMIS Aplikačný modu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a papieri treba poslať iba tie dokumenty ktoré musia byť podpísaný vedúcím partnerom (napr. Deklarácia vedúceho partnera, Prehlásenie o partnerstve, opatrenia na zabezpečenie princípu udržateľného rozvoja a pod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žiadosť nemusí byť vytlačená a taktiež kópie príloh alebo podporných dokumentov, ktoré existujú v elektronickej forme sa môžu natiahnuť do tohto IMIS systému cez upload funkci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ístup k IMIS systému - </a:t>
            </a:r>
            <a:r>
              <a:rPr b="0" lang="sk-SK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husk-cbc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7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8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0" name="Szövegdoboz 7"/>
          <p:cNvSpPr/>
          <p:nvPr/>
        </p:nvSpPr>
        <p:spPr>
          <a:xfrm>
            <a:off x="142920" y="28584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INDICATO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zövegdoboz 10"/>
          <p:cNvSpPr/>
          <p:nvPr/>
        </p:nvSpPr>
        <p:spPr>
          <a:xfrm>
            <a:off x="6286680" y="928800"/>
            <a:ext cx="2714400" cy="28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Indikátori sú na meranie efektivitu projekt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Dva typy indikátorov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definované program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aše indikátory špecifické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Kliknutím na tlačidlo Modify (Upraviť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môžete nastaviť ich východziu hodnotu, môžete nastaviť ich cieľovú hodnotu, a môžete vybrať obdobie, za ktoré budú sledované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6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607212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94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5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7" name="Szövegdoboz 6"/>
          <p:cNvSpPr/>
          <p:nvPr/>
        </p:nvSpPr>
        <p:spPr>
          <a:xfrm>
            <a:off x="142920" y="142920"/>
            <a:ext cx="664380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MEANS OF COMMUNIC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Komunikačné prostriedk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6" descr=""/>
          <p:cNvPicPr/>
          <p:nvPr/>
        </p:nvPicPr>
        <p:blipFill>
          <a:blip r:embed="rId3"/>
          <a:stretch/>
        </p:blipFill>
        <p:spPr>
          <a:xfrm>
            <a:off x="142920" y="1357200"/>
            <a:ext cx="3197160" cy="32148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"/>
          <p:cNvPicPr/>
          <p:nvPr/>
        </p:nvPicPr>
        <p:blipFill>
          <a:blip r:embed="rId4"/>
          <a:stretch/>
        </p:blipFill>
        <p:spPr>
          <a:xfrm>
            <a:off x="3357720" y="3357720"/>
            <a:ext cx="5643360" cy="2533320"/>
          </a:xfrm>
          <a:prstGeom prst="rect">
            <a:avLst/>
          </a:prstGeom>
          <a:ln w="0">
            <a:noFill/>
          </a:ln>
        </p:spPr>
      </p:pic>
      <p:sp>
        <p:nvSpPr>
          <p:cNvPr id="200" name="Téglalap 10"/>
          <p:cNvSpPr/>
          <p:nvPr/>
        </p:nvSpPr>
        <p:spPr>
          <a:xfrm>
            <a:off x="4357800" y="1254240"/>
            <a:ext cx="45720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EANS OF COMMUNICATION TOOLS (Komunikačné prostriedky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máte dve úloh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rať z preddefinovaného zoznamu tie komunikačné prostriedky, ktoré plánujete v priebehu realizácie projektu použiť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písať akékoľvek iné komunikačné prostriedky, ktoré plánujete použiť v políčku Other tools (Iné nástroj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3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02" name="Rectangle 4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3" name="Picture 5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6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5" name="Szövegdoboz 6"/>
          <p:cNvSpPr/>
          <p:nvPr/>
        </p:nvSpPr>
        <p:spPr>
          <a:xfrm>
            <a:off x="142920" y="214200"/>
            <a:ext cx="61437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PERMITS - Povolen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"/>
          <p:cNvPicPr/>
          <p:nvPr/>
        </p:nvPicPr>
        <p:blipFill>
          <a:blip r:embed="rId3"/>
          <a:stretch/>
        </p:blipFill>
        <p:spPr>
          <a:xfrm>
            <a:off x="214200" y="1714680"/>
            <a:ext cx="5965920" cy="2143080"/>
          </a:xfrm>
          <a:prstGeom prst="rect">
            <a:avLst/>
          </a:prstGeom>
          <a:ln w="0">
            <a:noFill/>
          </a:ln>
        </p:spPr>
      </p:pic>
      <p:sp>
        <p:nvSpPr>
          <p:cNvPr id="207" name="Szövegdoboz 9"/>
          <p:cNvSpPr/>
          <p:nvPr/>
        </p:nvSpPr>
        <p:spPr>
          <a:xfrm>
            <a:off x="6215040" y="1687680"/>
            <a:ext cx="2714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PERMITS (POVOLENIA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tvorte zoznam povolení, ktoré potrebujete na úspešnú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realizáciu projektu (ak je to relevantné pre váš projekt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09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0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2" name="Szövegdoboz 6"/>
          <p:cNvSpPr/>
          <p:nvPr/>
        </p:nvSpPr>
        <p:spPr>
          <a:xfrm>
            <a:off x="214200" y="285840"/>
            <a:ext cx="8286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CHECKLIST- Kontrolný zozna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zövegdoboz 7"/>
          <p:cNvSpPr/>
          <p:nvPr/>
        </p:nvSpPr>
        <p:spPr>
          <a:xfrm>
            <a:off x="4500720" y="1000080"/>
            <a:ext cx="4214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HECK LIST (KONTROLNÝ ZOZNAM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ájdete kontrolný zoznam vo formáte tabuľky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ktorej sú otázky vyplnené automaticky a musíte zadať odpovede typu Yes/No (Áno/Ni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aškrtnutím políčk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3"/>
          <a:stretch/>
        </p:blipFill>
        <p:spPr>
          <a:xfrm>
            <a:off x="214200" y="1000080"/>
            <a:ext cx="407196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16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7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Szövegdoboz 6"/>
          <p:cNvSpPr/>
          <p:nvPr/>
        </p:nvSpPr>
        <p:spPr>
          <a:xfrm>
            <a:off x="142920" y="21420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ANNEXES – Príloh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zövegdoboz 10"/>
          <p:cNvSpPr/>
          <p:nvPr/>
        </p:nvSpPr>
        <p:spPr>
          <a:xfrm>
            <a:off x="6215040" y="857160"/>
            <a:ext cx="27860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NNEXES (PRÍLOHY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ájdete zoznam tých príloh, ktoré musia byť odovzdané spolu so žiadosťo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idíte názov prílohy, a zároveň je možné vidieť, či je dan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íloha povinná alebo nie, resp. akým spôsobom ju máte poslať (viac info v Príručke pre žiadateľa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6" descr=""/>
          <p:cNvPicPr/>
          <p:nvPr/>
        </p:nvPicPr>
        <p:blipFill>
          <a:blip r:embed="rId3"/>
          <a:stretch/>
        </p:blipFill>
        <p:spPr>
          <a:xfrm>
            <a:off x="142920" y="857160"/>
            <a:ext cx="60087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2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6" name="Szövegdoboz 6"/>
          <p:cNvSpPr/>
          <p:nvPr/>
        </p:nvSpPr>
        <p:spPr>
          <a:xfrm>
            <a:off x="142920" y="428760"/>
            <a:ext cx="5000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ATTACHMENTS – Záložka príloh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zövegdoboz 7"/>
          <p:cNvSpPr/>
          <p:nvPr/>
        </p:nvSpPr>
        <p:spPr>
          <a:xfrm>
            <a:off x="5429160" y="1027080"/>
            <a:ext cx="357192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lačidlom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Upload (Nahrať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môžete priložiť potrebné doklady k žiadosti. Funguje ak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ahrávanie príloh do e-mail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lačidlom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Report (Vygenerovať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ôžete nechať systém vygenerovať 4 dokument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ion 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rojektová žiadosť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claration on Partnership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rehlásenie o partnerst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P Statement HU or LP Statement SK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rehlásenie Vedúceho partnera) - podľa krajiny pôvodu hlavného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Dokumenty systém automaticky uloží a budú zapísané v tabuľke. Vytvorený dokument sa dá stiahnuť zo zálož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ttachments (Prílohy) kedykoľv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6" descr=""/>
          <p:cNvPicPr/>
          <p:nvPr/>
        </p:nvPicPr>
        <p:blipFill>
          <a:blip r:embed="rId3"/>
          <a:stretch/>
        </p:blipFill>
        <p:spPr>
          <a:xfrm>
            <a:off x="142920" y="1071720"/>
            <a:ext cx="5143320" cy="43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3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3" name="Szövegdoboz 6"/>
          <p:cNvSpPr/>
          <p:nvPr/>
        </p:nvSpPr>
        <p:spPr>
          <a:xfrm>
            <a:off x="1500120" y="357120"/>
            <a:ext cx="614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POSTUP predloženia žiad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églalap 7"/>
          <p:cNvSpPr/>
          <p:nvPr/>
        </p:nvSpPr>
        <p:spPr>
          <a:xfrm>
            <a:off x="214200" y="1052640"/>
            <a:ext cx="8715600" cy="36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gistrácia a prihlásenie sa do systém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loženie požadovaných údaj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Kontorla žiadosti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(Check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+ Dopĺňanie údajov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Spustenie finálnej kontroly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(Check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výsledok Úspešná kontro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Nahranie dokumentov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(Upload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K žiadosti môžete priložiť akékoľvek potrebné príloh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ygenerovanie konečného dokument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žiadosti a príloh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edloženie žiadosti na JTS elektronicky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Submi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Kontrola žiadosti (Check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môžete kedykoľvek skontrolovať chýbajúce úd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Vygenerovanie dokumentov (Report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môžete kedykoľvek vygenerovať a prezrieť si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jektov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ú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iados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11280" y="1714680"/>
            <a:ext cx="7772400" cy="286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Ďakujem za pozornosť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10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37" name="Rectangle 11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8" name="Picture 12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13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6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1" name="Rectangle 7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" name="Picture 8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9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Rectangle 10"/>
          <p:cNvSpPr/>
          <p:nvPr/>
        </p:nvSpPr>
        <p:spPr>
          <a:xfrm>
            <a:off x="611280" y="405360"/>
            <a:ext cx="7445160" cy="51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1160" rIns="90000" tIns="228600" bIns="76320" anchor="ctr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Min. technické požiadavky na PC pre IM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ipojenie k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intern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peračný systém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Windows XP/Vista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statné IT nástro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Office /Open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Najnovšia verzia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Môžete si ju stiahnuť tu: </a:t>
            </a: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http://www.java.com/en/download/index.js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Adobe Reader/Pdf read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Internetový prehliadač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napr. Internet Explorer 6.0 alebo novšia verzia/ Mozilla Firefox 3.0 alebo novšia verzi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3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6" name="Rectangle 4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Picture 5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6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Szövegdoboz 8"/>
          <p:cNvSpPr/>
          <p:nvPr/>
        </p:nvSpPr>
        <p:spPr>
          <a:xfrm>
            <a:off x="214200" y="14292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Prihlásenie sa do systé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"/>
          <p:cNvPicPr/>
          <p:nvPr/>
        </p:nvPicPr>
        <p:blipFill>
          <a:blip r:embed="rId3"/>
          <a:stretch/>
        </p:blipFill>
        <p:spPr>
          <a:xfrm>
            <a:off x="214200" y="714240"/>
            <a:ext cx="4608720" cy="1714680"/>
          </a:xfrm>
          <a:prstGeom prst="rect">
            <a:avLst/>
          </a:prstGeom>
          <a:ln w="0">
            <a:noFill/>
          </a:ln>
        </p:spPr>
      </p:pic>
      <p:sp>
        <p:nvSpPr>
          <p:cNvPr id="71" name="Szövegdoboz 10"/>
          <p:cNvSpPr/>
          <p:nvPr/>
        </p:nvSpPr>
        <p:spPr>
          <a:xfrm>
            <a:off x="214200" y="261000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Registr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"/>
          <p:cNvPicPr/>
          <p:nvPr/>
        </p:nvPicPr>
        <p:blipFill>
          <a:blip r:embed="rId4"/>
          <a:srcRect l="31169" t="41029" r="31278" b="40959"/>
          <a:stretch/>
        </p:blipFill>
        <p:spPr>
          <a:xfrm>
            <a:off x="214200" y="3214800"/>
            <a:ext cx="4572000" cy="1755720"/>
          </a:xfrm>
          <a:prstGeom prst="rect">
            <a:avLst/>
          </a:prstGeom>
          <a:ln w="0">
            <a:noFill/>
          </a:ln>
        </p:spPr>
      </p:pic>
      <p:sp>
        <p:nvSpPr>
          <p:cNvPr id="73" name="Szövegdoboz 7"/>
          <p:cNvSpPr/>
          <p:nvPr/>
        </p:nvSpPr>
        <p:spPr>
          <a:xfrm>
            <a:off x="4929120" y="722160"/>
            <a:ext cx="39290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User name: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ôže byť čokoľvek (napr. názov organizáci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ystém po 5-10 min. vám pošle heslo ktoré je platné jednu hodin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Po prvom prihlásení musíťe zmeňiť hesl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ové heslo musí mať minimálne 8 znakov a malo by obsahovať malé, veľké písmená, a čísli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5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Szövegdoboz 7"/>
          <p:cNvSpPr/>
          <p:nvPr/>
        </p:nvSpPr>
        <p:spPr>
          <a:xfrm>
            <a:off x="142920" y="21420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odná strán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zövegdoboz 8"/>
          <p:cNvSpPr/>
          <p:nvPr/>
        </p:nvSpPr>
        <p:spPr>
          <a:xfrm>
            <a:off x="5715000" y="247680"/>
            <a:ext cx="3214800" cy="55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reate New Application - Vytvoriť novú žiados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Vždy si skontrolujte v menu v položke View Applications (Náhľad žiadosti), či ste už nezačali žiadosť pripravovať, resp. či už vaša žiadosť nie je medzi vytvorenými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ontinue Application - Pokračovať v žiad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ôžete pokračovať v proce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vkladania údajov do vašej žiad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môžete kedykoľvek prerušiť proces vkladania údajov – zaznamenané údaje sú uložené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mend Application – Upraviť žiados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ožné upravovať tie žiadosti, ktoré sú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zaslané späť od STS na doplnenie alebo úprav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"/>
          <p:cNvPicPr/>
          <p:nvPr/>
        </p:nvPicPr>
        <p:blipFill>
          <a:blip r:embed="rId3"/>
          <a:stretch/>
        </p:blipFill>
        <p:spPr>
          <a:xfrm>
            <a:off x="142920" y="785880"/>
            <a:ext cx="535788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2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Szövegdoboz 6"/>
          <p:cNvSpPr/>
          <p:nvPr/>
        </p:nvSpPr>
        <p:spPr>
          <a:xfrm>
            <a:off x="142920" y="32400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Vypĺňanie údajov do žiad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zövegdoboz 7"/>
          <p:cNvSpPr/>
          <p:nvPr/>
        </p:nvSpPr>
        <p:spPr>
          <a:xfrm>
            <a:off x="5429160" y="785880"/>
            <a:ext cx="3571920" cy="38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Hlavičk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edvolenom nastavení je hlavička prázdna, neaktív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yplní sa automaticky podla vyplnených údaj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Tlačidlá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 –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ymazanie celej žiadosť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CHECK – kontroluje sa obsah žiados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XT /SUBMIT – pokračovať v procese podávania žiadost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XIT – opustíte obrazovku (ale všetky zaznamenané údaje sú uložené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"/>
          <p:cNvPicPr/>
          <p:nvPr/>
        </p:nvPicPr>
        <p:blipFill>
          <a:blip r:embed="rId3"/>
          <a:stretch/>
        </p:blipFill>
        <p:spPr>
          <a:xfrm>
            <a:off x="142920" y="857160"/>
            <a:ext cx="52149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3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9" name="Rectangle 4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icture 5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6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Szövegdoboz 7"/>
          <p:cNvSpPr/>
          <p:nvPr/>
        </p:nvSpPr>
        <p:spPr>
          <a:xfrm>
            <a:off x="5429160" y="928800"/>
            <a:ext cx="3571920" cy="35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Záložk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OVERVIEW  (Prehlad)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zobrazuje najdôležitejšie ekonomické údaje žiadosti 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rozumiteľnej štruktúre. Všetky políčka sú neaktívne, zadávanie údajov tu nie je povolen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HEETS TO FILL IN (Listy na vypĺňani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ôžete podrobne popísať svoj plánovaný projec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TTACHMETS (Prílohy) –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u môžete vytvoriť a nahrať vaše dokumen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5214960" cy="4367160"/>
          </a:xfrm>
          <a:prstGeom prst="rect">
            <a:avLst/>
          </a:prstGeom>
          <a:ln w="0">
            <a:noFill/>
          </a:ln>
        </p:spPr>
      </p:pic>
      <p:sp>
        <p:nvSpPr>
          <p:cNvPr id="94" name="Szövegdoboz 10"/>
          <p:cNvSpPr/>
          <p:nvPr/>
        </p:nvSpPr>
        <p:spPr>
          <a:xfrm>
            <a:off x="142920" y="32400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Vypĺňanie údajov do žiad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6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Szövegdoboz 6"/>
          <p:cNvSpPr/>
          <p:nvPr/>
        </p:nvSpPr>
        <p:spPr>
          <a:xfrm>
            <a:off x="142920" y="28584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zövegdoboz 7"/>
          <p:cNvSpPr/>
          <p:nvPr/>
        </p:nvSpPr>
        <p:spPr>
          <a:xfrm>
            <a:off x="5214960" y="928800"/>
            <a:ext cx="3571920" cy="21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Riadky v tabuľke pokrývajú takzvané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od-obrazovky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s odkazom na rôzne časti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VIEW (Náhľad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oskytuje možnosť prehliadať údaje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ODIFY  (Upraviť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umožňuje editovať alebo upravovať  úda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4786200" cy="43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0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" name="Szövegdoboz 6"/>
          <p:cNvSpPr/>
          <p:nvPr/>
        </p:nvSpPr>
        <p:spPr>
          <a:xfrm>
            <a:off x="142920" y="39528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MAI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zövegdoboz 7"/>
          <p:cNvSpPr/>
          <p:nvPr/>
        </p:nvSpPr>
        <p:spPr>
          <a:xfrm>
            <a:off x="5429160" y="1214280"/>
            <a:ext cx="3571920" cy="31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Úd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TIT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ázov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CRONY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skráten</a:t>
            </a: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ý názov (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&lt;25 karakt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ORITY, AREA, 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u sa vyberie </a:t>
            </a: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priorita, oblasť a opatr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preštudujte si Príručku pre Žiadateľ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D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lánované trvanie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3"/>
          <a:stretch/>
        </p:blipFill>
        <p:spPr>
          <a:xfrm>
            <a:off x="142920" y="1428840"/>
            <a:ext cx="52084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7:53:10Z</dcterms:created>
  <dc:creator>BakoAgnes</dc:creator>
  <dc:description/>
  <dc:language>en-US</dc:language>
  <cp:lastModifiedBy>TorokZsolt</cp:lastModifiedBy>
  <dcterms:modified xsi:type="dcterms:W3CDTF">2013-04-17T07:45:42Z</dcterms:modified>
  <cp:revision>120</cp:revision>
  <dc:subject/>
  <dc:title>1. dia</dc:title>
</cp:coreProperties>
</file>